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AF3-7281-4411-A29C-C25AAFB7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B7E-0F1E-460C-A6FF-46652B06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259-438B-478A-A255-2CE73856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E24-2E54-4750-883B-C1429A9B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501-393B-4355-B4F6-534E450B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A6D-32D4-4A3D-A65B-7B76D831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2EE-30AB-46ED-8AA4-263E8E6A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1FC-B6B3-40B8-B612-443AB2B5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E1D-ACFA-494B-9C92-6FA056D5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871-8565-45AF-ACE1-0667497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DD1-DA60-4C2D-B49D-0C32B8C6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1B3-7463-4933-98E1-E876FDE9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4BAA-BE36-4D73-989A-9255EFC63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eb.mit.edu/invent/iow/perkins.html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533520"/>
            <a:ext cx="57913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Kool Aid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4978440"/>
            <a:ext cx="1752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S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3-8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Computer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48520"/>
            <a:ext cx="63244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Sound: Free Play Music, </a:t>
            </a:r>
            <a:r>
              <a:rPr b="0" lang="en-US" sz="1800" spc="-1" strike="noStrike" u="sng">
                <a:solidFill>
                  <a:srgbClr val="cc0099"/>
                </a:solidFill>
                <a:uFillTx/>
                <a:latin typeface="Comic Sans MS"/>
              </a:rPr>
              <a:t>Busy Doing Nothing</a:t>
            </a: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, March, 11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erkins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066680" y="2666880"/>
            <a:ext cx="5562720" cy="2738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638680"/>
            <a:ext cx="5943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icture: Lemelson-Mit Program, March, 11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http://web.mit.edu/invent/iow/perki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276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urlz MT"/>
              </a:rPr>
              <a:t>Invention: Kool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It all started in Hastings Nebra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After shipping Perkins product, ”Fruit Smack” (a type of juice) with trouble he made the powder to 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He then called it Kool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original flavors are, strawberry, lemon lime, grape, orange, and raspb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In 1953 Kool Aid was with General Foods, and now general foods is with K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b2ff"/>
            </a:gs>
            <a:gs pos="100000">
              <a:srgbClr val="88d8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8bc7"/>
                </a:solidFill>
                <a:latin typeface="Curlz MT"/>
              </a:rPr>
              <a:t>Inventor: Edwin Per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8bc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8bc7"/>
                </a:solidFill>
                <a:latin typeface="Comic Sans MS"/>
              </a:rPr>
              <a:t>As a child he made many juice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8bc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8bc7"/>
                </a:solidFill>
                <a:latin typeface="Comic Sans MS"/>
              </a:rPr>
              <a:t>In 1918 he married a girl named Ki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8bc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8bc7"/>
                </a:solidFill>
                <a:latin typeface="Comic Sans MS"/>
              </a:rPr>
              <a:t>At 25, Perkins made a mail-order business called </a:t>
            </a:r>
            <a:r>
              <a:rPr b="1" i="1" lang="en-US" sz="3200" spc="-1" strike="noStrike">
                <a:solidFill>
                  <a:srgbClr val="058bc7"/>
                </a:solidFill>
                <a:latin typeface="Comic Sans MS"/>
              </a:rPr>
              <a:t>Perkins Products 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8bc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8bc7"/>
                </a:solidFill>
                <a:latin typeface="Comic Sans MS"/>
              </a:rPr>
              <a:t>He Later moved the production to Chicago in 19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8bc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8bc7"/>
                </a:solidFill>
                <a:latin typeface="Comic Sans MS"/>
              </a:rPr>
              <a:t>Edwin sadly passed away in 19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88d8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9556400">
            <a:off x="465480" y="302040"/>
            <a:ext cx="73915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ff"/>
                </a:solidFill>
                <a:latin typeface="Curlz MT"/>
              </a:rPr>
              <a:t>The End!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4040" y="2506680"/>
            <a:ext cx="5453280" cy="29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urlz MT"/>
              </a:rPr>
              <a:t>The End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68580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urlz MT"/>
              </a:rPr>
              <a:t>The En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1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2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4:56Z</dcterms:created>
  <dc:creator>install</dc:creator>
  <dc:description/>
  <dc:language>en-US</dc:language>
  <cp:lastModifiedBy>install</cp:lastModifiedBy>
  <dcterms:modified xsi:type="dcterms:W3CDTF">2010-03-18T13:40:58Z</dcterms:modified>
  <cp:revision>10</cp:revision>
  <dc:subject/>
  <dc:title>Slide 1</dc:title>
</cp:coreProperties>
</file>